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B708-4D52-402A-BBA8-7317F6FE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0769-83F1-473D-A2E2-0202A22A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BA5A-D370-41A1-89DD-C42E06AD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037D-E3AF-4A9F-AD10-7C5190BE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3232-27DD-4D6A-AA1C-8F12FB4E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5B7F-A330-4E94-A06E-40A8778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F719-B91C-48FB-9463-32BBDAFB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9ED7-F23F-44DF-8855-626CB79D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3B4A-C523-4C91-BA05-00038F34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4D51-7AFC-4384-8677-47923CD7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DA69-C9AF-4128-8955-6CFABE1B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A8AF-08EE-4B1D-AB03-3C04373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0D52-4F22-4BE8-9A6E-425C6B60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B7DF-A075-4447-A2AE-D09FB43A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0D4D-C7CB-4DAB-98B0-F5F05481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4482-0840-4098-B067-BD082ADC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FB77-C8E1-445D-B1F9-85E67741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3BAA-AA0F-4C13-876E-9BF4C5A2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5F65-C760-42BD-80EB-D5D6ACE4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143A-C8E4-4AA5-B8F0-224E153C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37CB-9964-495E-B5C0-828CD283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1BCF-CC8F-40F4-B5E0-7B1425AC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F853-46D8-4FB3-AAB7-3892D2A9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6E38-3223-480F-ACD6-521D3647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8A11-33CE-44B3-BEAB-6C0D0772BFD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4464-FC24-46DF-B4B9-EAE7426A3A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Sight Word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23880" y="3198960"/>
            <a:ext cx="640080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dergar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strips dir="rd"/>
    <p:sndAc>
      <p:stSnd>
        <p:snd r:embed="rId1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93" name="_s9220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96" name="_s9221"/>
            <p:cNvCxnSpPr>
              <a:stCxn id="197" idx="0"/>
              <a:endCxn id="195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98" name="_s9222"/>
            <p:cNvCxnSpPr>
              <a:stCxn id="199" idx="0"/>
              <a:endCxn id="195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95" name="_s9223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I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_s9224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_s9225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i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_s9226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igloo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3" dur="2500" autoRev="1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14" dur="2500" autoRev="1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15" dur="2500" autoRev="1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8" dur="25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19" dur="25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20" dur="25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3" dur="250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24" dur="250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25" dur="250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8" dur="2500" autoRev="1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29" dur="2500" autoRev="1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30" dur="2500" autoRev="1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01" name="_s10244"/>
            <p:cNvCxnSpPr>
              <a:stCxn id="202" idx="0"/>
              <a:endCxn id="203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4" name="_s10245"/>
            <p:cNvCxnSpPr>
              <a:stCxn id="205" idx="0"/>
              <a:endCxn id="203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6" name="_s10246"/>
            <p:cNvCxnSpPr>
              <a:stCxn id="207" idx="0"/>
              <a:endCxn id="203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03" name="_s10247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J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_s10248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Januar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_s10249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Jun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_s10250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Jul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" dur="2500" autoRev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37" dur="2500" autoRev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38" dur="2500" autoRev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42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43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6" dur="250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47" dur="250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48" dur="250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1" dur="2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52" dur="2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53" dur="2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09" name="_s11268"/>
            <p:cNvCxnSpPr>
              <a:stCxn id="210" idx="0"/>
              <a:endCxn id="211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2" name="_s11269"/>
            <p:cNvCxnSpPr>
              <a:stCxn id="213" idx="0"/>
              <a:endCxn id="211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4" name="_s11270"/>
            <p:cNvCxnSpPr>
              <a:stCxn id="215" idx="0"/>
              <a:endCxn id="211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11" name="_s11271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_s11272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kin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_s11273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King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_s11274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ke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9" dur="25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60" dur="25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61" dur="25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2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65" dur="2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66" dur="2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9" dur="250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70" dur="250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71" dur="250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4" dur="25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75" dur="25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76" dur="25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17" name="_s12292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20" name="_s12293"/>
            <p:cNvCxnSpPr>
              <a:stCxn id="221" idx="0"/>
              <a:endCxn id="219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22" name="_s12294"/>
            <p:cNvCxnSpPr>
              <a:stCxn id="223" idx="0"/>
              <a:endCxn id="219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19" name="_s12295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_s12296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look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_s12297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lik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_s12298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lov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2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83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84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7" dur="25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88" dur="25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89" dur="25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2" dur="250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93" dur="250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94" dur="250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7" dur="2500" autoRev="1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98" dur="2500" autoRev="1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99" dur="2500" autoRev="1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25" name="_s13316"/>
            <p:cNvCxnSpPr>
              <a:stCxn id="226" idx="0"/>
              <a:endCxn id="227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28" name="_s13317"/>
            <p:cNvCxnSpPr>
              <a:stCxn id="229" idx="0"/>
              <a:endCxn id="227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30" name="_s13318"/>
            <p:cNvCxnSpPr>
              <a:stCxn id="231" idx="0"/>
              <a:endCxn id="227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27" name="_s13319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_s13320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m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_s13321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m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_s13322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Monda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5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06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07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0" dur="250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11" dur="250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12" dur="250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5" dur="2500" autoRev="1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16" dur="2500" autoRev="1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17" dur="2500" autoRev="1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0" dur="250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21" dur="250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22" dur="250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33" name="_s14340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36" name="_s14341"/>
            <p:cNvCxnSpPr>
              <a:stCxn id="237" idx="0"/>
              <a:endCxn id="235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38" name="_s14342"/>
            <p:cNvCxnSpPr>
              <a:stCxn id="239" idx="0"/>
              <a:endCxn id="235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35" name="_s14343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N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_s14344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not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_s14345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no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_s14346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November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8" dur="2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29" dur="2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30" dur="2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3" dur="25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34" dur="25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35" dur="25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8" dur="250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39" dur="250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40" dur="250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3" dur="250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44" dur="250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45" dur="250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41" name="_s15364"/>
            <p:cNvCxnSpPr>
              <a:stCxn id="242" idx="0"/>
              <a:endCxn id="243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4" name="_s15365"/>
            <p:cNvCxnSpPr>
              <a:stCxn id="245" idx="0"/>
              <a:endCxn id="243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6" name="_s15366"/>
            <p:cNvCxnSpPr>
              <a:stCxn id="247" idx="0"/>
              <a:endCxn id="243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43" name="_s15367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_s15368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_s15369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orang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_s15370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on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1" dur="2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52" dur="2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53" dur="2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6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57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58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1" dur="250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62" dur="250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63" dur="250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6" dur="250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67" dur="250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68" dur="250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49" name="_s16388"/>
            <p:cNvCxnSpPr>
              <a:stCxn id="250" idx="0"/>
              <a:endCxn id="251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2" name="_s16389"/>
            <p:cNvCxnSpPr>
              <a:stCxn id="253" idx="0"/>
              <a:endCxn id="251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4" name="_s16390"/>
            <p:cNvCxnSpPr>
              <a:stCxn id="255" idx="0"/>
              <a:endCxn id="251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51" name="_s16391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_s16392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purpl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_s16393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pink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_s16394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pi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4" dur="250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75" dur="250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76" dur="250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9" dur="250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80" dur="250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81" dur="250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4" dur="2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85" dur="2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86" dur="2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9" dur="2500" autoRev="1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90" dur="2500" autoRev="1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91" dur="2500" autoRev="1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57" name="_s17412"/>
            <p:cNvCxnSpPr>
              <a:stCxn id="258" idx="0"/>
              <a:endCxn id="259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60" name="_s17413"/>
            <p:cNvCxnSpPr>
              <a:stCxn id="261" idx="0"/>
              <a:endCxn id="259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62" name="_s17414"/>
            <p:cNvCxnSpPr>
              <a:stCxn id="263" idx="0"/>
              <a:endCxn id="259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59" name="_s17415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Qu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_s17416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quiet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_s17417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quick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_s17418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quilt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7" dur="2500" autoRev="1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98" dur="2500" autoRev="1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99" dur="2500" autoRev="1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2" dur="2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03" dur="2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04" dur="2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7" dur="25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08" dur="25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09" dur="25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2" dur="2500" autoRev="1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13" dur="2500" autoRev="1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14" dur="2500" autoRev="1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65" name="_s18436"/>
            <p:cNvCxnSpPr>
              <a:stCxn id="266" idx="0"/>
              <a:endCxn id="267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68" name="_s18437"/>
            <p:cNvCxnSpPr>
              <a:stCxn id="269" idx="0"/>
              <a:endCxn id="267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70" name="_s18438"/>
            <p:cNvCxnSpPr>
              <a:stCxn id="271" idx="0"/>
              <a:endCxn id="267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67" name="_s18439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_s18440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re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_s18441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run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_s18442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rea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0" dur="2500" autoRev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21" dur="2500" autoRev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22" dur="2500" autoRev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5" dur="250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26" dur="250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27" dur="250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0" dur="2500" autoRev="1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31" dur="2500" autoRev="1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32" dur="2500" autoRev="1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5" dur="2500" autoRev="1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36" dur="2500" autoRev="1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37" dur="2500" autoRev="1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Organization Chart 7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29" name="_s1028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2" name="_s1029"/>
            <p:cNvCxnSpPr>
              <a:stCxn id="133" idx="0"/>
              <a:endCxn id="131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4" name="_s1030"/>
            <p:cNvCxnSpPr>
              <a:stCxn id="135" idx="0"/>
              <a:endCxn id="131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31" name="_s1031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1032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_s1033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an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ar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 advTm="5000">
    <p:diamond/>
    <p:sndAc>
      <p:stSnd>
        <p:snd r:embed="rId1" name="laser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" dur="2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7" dur="2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8" dur="2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2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3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" dur="250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7" dur="250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8" dur="250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" dur="2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2" dur="2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3" dur="2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73" name="_s19460"/>
            <p:cNvCxnSpPr>
              <a:stCxn id="274" idx="0"/>
              <a:endCxn id="275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76" name="_s19461"/>
            <p:cNvCxnSpPr>
              <a:stCxn id="277" idx="0"/>
              <a:endCxn id="275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78" name="_s19462"/>
            <p:cNvCxnSpPr>
              <a:stCxn id="279" idx="0"/>
              <a:endCxn id="275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75" name="_s19463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_s19464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sh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_s19465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sai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_s19466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seven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3" dur="250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44" dur="250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45" dur="250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8" dur="2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49" dur="2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50" dur="2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3" dur="2500" autoRev="1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54" dur="2500" autoRev="1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55" dur="2500" autoRev="1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8" dur="2500" autoRev="1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59" dur="2500" autoRev="1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60" dur="2500" autoRev="1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81" name="_s20484"/>
            <p:cNvCxnSpPr>
              <a:stCxn id="282" idx="0"/>
              <a:endCxn id="283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84" name="_s20485"/>
            <p:cNvCxnSpPr>
              <a:stCxn id="285" idx="0"/>
              <a:endCxn id="283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86" name="_s20486"/>
            <p:cNvCxnSpPr>
              <a:stCxn id="287" idx="0"/>
              <a:endCxn id="283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83" name="_s20487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_s20488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th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_s20489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that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_s20490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thi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6" dur="2500" autoRev="1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67" dur="2500" autoRev="1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68" dur="2500" autoRev="1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1" dur="250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72" dur="250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73" dur="250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6" dur="250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77" dur="250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78" dur="250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1" dur="2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82" dur="2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83" dur="2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89" name="_s21508"/>
            <p:cNvCxnSpPr>
              <a:stCxn id="290" idx="0"/>
              <a:endCxn id="291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92" name="_s21509"/>
            <p:cNvCxnSpPr>
              <a:stCxn id="293" idx="0"/>
              <a:endCxn id="291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94" name="_s21510"/>
            <p:cNvCxnSpPr>
              <a:stCxn id="295" idx="0"/>
              <a:endCxn id="291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91" name="_s21511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U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_s21512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u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_s21513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up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_s21514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under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9" dur="250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90" dur="250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91" dur="250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4" dur="2500" autoRev="1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95" dur="2500" autoRev="1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96" dur="2500" autoRev="1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9" dur="2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00" dur="2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01" dur="2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4" dur="250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05" dur="250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06" dur="250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97" name="_s22532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00" name="_s22533"/>
            <p:cNvCxnSpPr>
              <a:stCxn id="301" idx="0"/>
              <a:endCxn id="299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02" name="_s22534"/>
            <p:cNvCxnSpPr>
              <a:stCxn id="303" idx="0"/>
              <a:endCxn id="299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99" name="_s22535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V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_s22536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ver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_s22537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violet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_s22538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van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2" dur="2500" autoRev="1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13" dur="2500" autoRev="1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14" dur="2500" autoRev="1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7" dur="250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18" dur="250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19" dur="250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2" dur="2500" autoRev="1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23" dur="2500" autoRev="1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24" dur="2500" autoRev="1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7" dur="2500" autoRev="1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28" dur="2500" autoRev="1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29" dur="2500" autoRev="1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305" name="_s23556"/>
            <p:cNvCxnSpPr>
              <a:stCxn id="306" idx="0"/>
              <a:endCxn id="307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08" name="_s23557"/>
            <p:cNvCxnSpPr>
              <a:stCxn id="309" idx="0"/>
              <a:endCxn id="307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10" name="_s23558"/>
            <p:cNvCxnSpPr>
              <a:stCxn id="311" idx="0"/>
              <a:endCxn id="307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307" name="_s23559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W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_s23560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wa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_s23561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with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_s23562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w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35" dur="25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36" dur="25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37" dur="25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0" dur="250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41" dur="250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42" dur="250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5" dur="250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46" dur="250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47" dur="250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50" dur="2500" autoRev="1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51" dur="2500" autoRev="1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52" dur="2500" autoRev="1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313" name="_s24580"/>
            <p:cNvCxnSpPr>
              <a:stCxn id="314" idx="0"/>
              <a:endCxn id="315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16" name="_s24581"/>
            <p:cNvCxnSpPr>
              <a:stCxn id="317" idx="0"/>
              <a:endCxn id="315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18" name="_s24582"/>
            <p:cNvCxnSpPr>
              <a:stCxn id="319" idx="0"/>
              <a:endCxn id="315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315" name="_s24583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XYZ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_s24584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x-ra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_s24585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you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_s24586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zoo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58" dur="2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59" dur="2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60" dur="2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0"/>
                            </p:stCondLst>
                            <p:childTnLst>
                              <p:par>
                                <p:cTn id="5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3" dur="250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64" dur="250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65" dur="250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8" dur="250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69" dur="250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70" dur="250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73" dur="2500" autoRev="1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74" dur="2500" autoRev="1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75" dur="2500" autoRev="1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37" name="_s2052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0" name="_s2053"/>
            <p:cNvCxnSpPr>
              <a:stCxn id="141" idx="0"/>
              <a:endCxn id="139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2" name="_s2054"/>
            <p:cNvCxnSpPr>
              <a:stCxn id="143" idx="0"/>
              <a:endCxn id="139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39" name="_s2055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_s2056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brown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57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blu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_s2058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black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" dur="2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0" dur="2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1" dur="2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" dur="2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5" dur="2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6" dur="2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" dur="2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60" dur="2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61" dur="2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" dur="25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65" dur="25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66" dur="25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45" name="_s3076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8" name="_s3077"/>
            <p:cNvCxnSpPr>
              <a:stCxn id="149" idx="0"/>
              <a:endCxn id="147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50" name="_s3078"/>
            <p:cNvCxnSpPr>
              <a:stCxn id="151" idx="0"/>
              <a:endCxn id="147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47" name="_s3079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_s3080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color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_s3081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circl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3082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crayon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73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74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" dur="25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79" dur="25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80" dur="25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" dur="25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85" dur="25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86" dur="25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0" dur="2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91" dur="2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92" dur="2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53" name="_s4100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56" name="_s4101"/>
            <p:cNvCxnSpPr>
              <a:stCxn id="157" idx="0"/>
              <a:endCxn id="155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58" name="_s4102"/>
            <p:cNvCxnSpPr>
              <a:stCxn id="159" idx="0"/>
              <a:endCxn id="155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55" name="_s4103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_s4104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do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_s4105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doe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_s4106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di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250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99" dur="250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00" dur="250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2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04" dur="2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05" dur="2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8" dur="250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09" dur="250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10" dur="250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3" dur="250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14" dur="250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15" dur="250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61" name="_s5124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4" name="_s5125"/>
            <p:cNvCxnSpPr>
              <a:stCxn id="165" idx="0"/>
              <a:endCxn id="163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6" name="_s5126"/>
            <p:cNvCxnSpPr>
              <a:stCxn id="167" idx="0"/>
              <a:endCxn id="163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3" name="_s5127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5128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E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_s5129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Edna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_s5130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Elephant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" dur="250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22" dur="250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23" dur="250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2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27" dur="2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28" dur="2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" dur="250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32" dur="250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33" dur="250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6" dur="2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37" dur="2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38" dur="2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69" name="_s6148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2" name="_s6149"/>
            <p:cNvCxnSpPr>
              <a:stCxn id="173" idx="0"/>
              <a:endCxn id="171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4" name="_s6150"/>
            <p:cNvCxnSpPr>
              <a:stCxn id="175" idx="0"/>
              <a:endCxn id="171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1" name="_s6151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_s6152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for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6153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four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6154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fiv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" dur="2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45" dur="2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46" dur="2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9" dur="2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50" dur="2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51" dur="2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4" dur="2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55" dur="2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56" dur="2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9" dur="2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60" dur="2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61" dur="2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77" name="_s7172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80" name="_s7173"/>
            <p:cNvCxnSpPr>
              <a:stCxn id="181" idx="0"/>
              <a:endCxn id="179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82" name="_s7174"/>
            <p:cNvCxnSpPr>
              <a:stCxn id="183" idx="0"/>
              <a:endCxn id="179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9" name="_s7175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G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_s7176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go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_s7177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green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_s7178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gra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7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68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69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2" dur="250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73" dur="250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74" dur="250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7" dur="2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78" dur="2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79" dur="2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2" dur="2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83" dur="2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84" dur="2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85" name="_s8196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88" name="_s8197"/>
            <p:cNvCxnSpPr>
              <a:stCxn id="189" idx="0"/>
              <a:endCxn id="187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90" name="_s8198"/>
            <p:cNvCxnSpPr>
              <a:stCxn id="191" idx="0"/>
              <a:endCxn id="187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87" name="_s8199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_s8200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h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_s8201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ha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_s8202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hav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50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91" dur="250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92" dur="250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5" dur="250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96" dur="250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97" dur="250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0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01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02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5" dur="250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06" dur="250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07" dur="250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2:06:33Z</dcterms:created>
  <dc:creator> </dc:creator>
  <dc:description/>
  <dc:language>en-US</dc:language>
  <cp:lastModifiedBy>cbarrs</cp:lastModifiedBy>
  <dcterms:modified xsi:type="dcterms:W3CDTF">2010-07-08T01:59:45Z</dcterms:modified>
  <cp:revision>6</cp:revision>
  <dc:subject/>
  <dc:title>Sight Words</dc:title>
</cp:coreProperties>
</file>